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</p:sldMasterIdLst>
  <p:sldIdLst>
    <p:sldId id="256" r:id="rId25"/>
    <p:sldId id="257" r:id="rId26"/>
    <p:sldId id="258" r:id="rId27"/>
    <p:sldId id="259" r:id="rId28"/>
    <p:sldId id="260" r:id="rId29"/>
    <p:sldId id="261" r:id="rId30"/>
    <p:sldId id="262" r:id="rId31"/>
    <p:sldId id="263" r:id="rId32"/>
    <p:sldId id="264" r:id="rId33"/>
    <p:sldId id="265" r:id="rId34"/>
    <p:sldId id="26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" Target="slides/slide1.xml"/><Relationship Id="rId26" Type="http://schemas.openxmlformats.org/officeDocument/2006/relationships/slide" Target="slides/slide2.xml"/><Relationship Id="rId27" Type="http://schemas.openxmlformats.org/officeDocument/2006/relationships/slide" Target="slides/slide3.xml"/><Relationship Id="rId28" Type="http://schemas.openxmlformats.org/officeDocument/2006/relationships/slide" Target="slides/slide4.xml"/><Relationship Id="rId29" Type="http://schemas.openxmlformats.org/officeDocument/2006/relationships/slide" Target="slides/slide5.xml"/><Relationship Id="rId30" Type="http://schemas.openxmlformats.org/officeDocument/2006/relationships/slide" Target="slides/slide6.xml"/><Relationship Id="rId31" Type="http://schemas.openxmlformats.org/officeDocument/2006/relationships/slide" Target="slides/slide7.xml"/><Relationship Id="rId32" Type="http://schemas.openxmlformats.org/officeDocument/2006/relationships/slide" Target="slides/slide8.xml"/><Relationship Id="rId33" Type="http://schemas.openxmlformats.org/officeDocument/2006/relationships/slide" Target="slides/slide9.xml"/><Relationship Id="rId34" Type="http://schemas.openxmlformats.org/officeDocument/2006/relationships/slide" Target="slides/slide10.xml"/><Relationship Id="rId35" Type="http://schemas.openxmlformats.org/officeDocument/2006/relationships/slide" Target="slides/slide11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76895-A7D9-4AD3-B1F5-8C80ECE0E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FA34B-3E72-4A05-BA8C-412E471E4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B986B4-7CEF-49D6-B4EE-08DA34ABB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882742-1186-46A3-A823-C784F9FA6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EC9701-DFB9-40CC-BB57-0452CA892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3DC5AF-3AC0-40EB-95E1-33C038E8E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23E211-D9AD-4208-B516-CB317F6B1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6B9A5E-F97E-4A6E-AE4F-557466900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8705AA-9634-44CF-B13B-E3489251D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ECD1F5-C1D1-4D29-B185-72019497B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05F82D-0F65-4191-B335-B602170C9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A36D89-6B2D-453A-BC72-F381825CE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44813-109F-40E3-B085-FF0E7B9D4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7BF181-B969-4E33-9D27-548557B90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B3930D-DAC2-41F1-A86C-8D74DA336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5BB938-3D0A-4209-B783-860789D35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9A661D-1F76-4673-BA00-B2D71A388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0ACBE0-7E95-49D7-8CBE-58D2D1729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DFFAE4-4A3C-4501-84A4-ECB3DE78A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1C17AA-65D5-49A6-9BB6-13E09BFFA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E8FF92-2A1D-4BAA-9ECF-DB16FD0A3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663469-26BE-4D65-BB62-9B5D9FCBD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256A5D-6BF5-4059-83AF-2B14CF6E7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18E49-B7BB-4654-B038-B63EC68AA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DC3B48-F8A1-45D5-9FE1-134C385A9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45EB13-DE44-4F5D-BB5E-7D2804062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615DB5-88B7-4BC2-BB82-DFE42CA65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443DE6-C364-4B32-8A0B-F173A9408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8824A1-97B0-4D4A-97AB-FD15AFCD4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D6BEBB-CA01-444F-BECB-84E3661F7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969907-8174-471F-91E1-6100CF3CA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A571A2-3B05-4D35-A3EE-DE77021E6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61093D-BA25-4DDB-9925-AF8E09779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B4129B-2BAD-40B1-959C-C991DA132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9BB74-2353-41DD-94A1-33AE4A7C4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EF0622-D12E-4066-B983-0F1006819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35B664-F569-42FD-AEBD-04831347E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2294D0-AA64-4DD4-B8DC-E2DA6F4EB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4EB335-B4C3-4AB8-B341-B2868ED05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4E86B7-B04E-4E95-9BEE-CF14B57A5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B28967-139C-49BB-995D-BD69CB29E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8DC6F8-0E9D-4D15-BCFC-88B9E50B7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1296D7-4013-4D43-B4D0-5D8AC265C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CE9EAE-61A8-43F5-8DAB-CFABF034F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E36FEE-7DC7-4FEB-A51D-F87DA4AB9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D16FD-0386-4560-8DB3-F3CE27B4C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89E798-3121-4A33-BCF9-E46C6F085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A9F75B-3107-47E3-8948-B36387948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B0B2AD-E64D-4CB5-A252-7AE6F55BC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40ACFF-9FBA-4A0A-95C4-4E90602BF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39194E-B4CB-4E1D-AC5F-6C118393E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73B438E-596F-46C3-AEA1-7AB567005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C8DB6CB-C632-4A59-99F4-969904A05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4E4DC9C-A106-4B2F-A7C3-372CDE97A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69EDA59-2107-4432-B41E-4E1A872AE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7314C54-F26D-4A16-9E0C-E46BB7A7D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A57C7-E601-4E8B-AED4-DC23CED21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EB46863-45E4-4267-90B8-370F5F3A1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AAD0197-1561-46BB-82E5-0BDD7B5D8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00FAD33-D17A-4CB1-AC32-B66A35B0D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C7EEFB1-3CC8-4574-8EA3-B54BC7A2F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2ED0BF4-DDE1-4563-BECB-48A217A9E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5F83EC2-4D2C-4ABF-8E43-443E4738F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8EEAC88-456C-4680-AD74-E78A66E00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04D3E20-B47C-48F3-BC75-BECD25C03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9F35C48-4D9C-455E-AFFA-2A450B353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23E3029-332B-4A47-B4CB-9AFED1CF1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6E710-67FE-4BBF-A587-D5E686735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16A665A-1B8A-4A51-AB66-303805766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6DA875B-E826-403C-B578-523225ED1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4320AED-5437-4044-92B9-6615FC1E3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1899B47-9235-4F65-947B-EAD3A956E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A069241-C2EB-45A0-98BB-A928114E9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A7B6210-A656-484D-83E0-67F0E3A9D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262DEB5-E6BF-41E7-B188-ECA9126E0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4F8E4E4-CBE2-479F-B890-71DE409E2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BFDEB89-EFCD-45F7-A5A5-389DAB432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7BD43F3-E2F2-4ECD-A9B0-988C547D2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0E14B-568E-4F59-BC9B-860447FEA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C84A90B-9699-411A-A25A-2A14B7943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9913468-A107-4062-AD0C-F9BA7E813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5C59625-0DAD-498D-B149-D21659FA5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403A0E2-820D-4246-9CD3-2B99BF720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135C1C6-7E74-483F-B24F-EA52CF8A8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F4A7B9C-95D6-4057-A93B-2C6EA9475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A2A5CE3-ACCB-47AC-8064-5B2BA7DF9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F921FE1-4B43-4120-A947-E1FF64C08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844B2D4-15F0-4707-8FAC-EC4B56B55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6927104-6FAE-4290-AD5D-BB6848350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EB1E6-805E-414B-B3A6-E8FEE0AC8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F387981-5B3C-43E1-9FD6-63D42BF86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AF89C5E-42D2-450F-872A-BD6F5C11A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3043A28-4AD9-4E7B-9C17-08AA17DC0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1DBAC3A-6D8A-4DAD-B9CD-0C8FA8356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356E4B7-C4CA-4BFA-9E00-B7D30DCDA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23A0E11-0149-465D-BA7F-5AA924E8E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FEF2151-C5FA-4DD0-80DF-FFB0F29F5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D8EE96B-4A08-4223-91CC-9D41D16D3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48A63CE-191D-4310-BFFB-58A878D6B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5E5F501-4FD3-4A94-B378-E9C43C39C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F1804-81B3-4A24-BC84-4BCBACB46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7D95D9F-A4F6-4BFB-9584-9E707806F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BF1D127-5D98-4FC4-AE54-937EB33C2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2015DB1-3E8D-4A1F-A894-E6025830D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3A11F4D-42BB-48FF-8269-F24DA9E01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5384915-9482-4C64-9E11-9FF586717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7622A6F-BA2A-4FE7-BE01-CCD79B22D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F5D530D-EBA4-438E-BDFE-B68819C5C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072318B-1E67-4F3E-A729-4CBCAFE09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E7B79E6-917D-4340-8595-67130B720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2A5080F-1225-4C9D-9990-77B3A0F55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60C33-A092-44E9-BBB1-45F070152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37CFF-5798-48EF-9CF9-ADB733DEA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12B50D6-EC86-4770-8C07-7E247F48C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D9C8F5A-8BC6-47AF-88A9-FEECBA83D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62BDEFE-5F02-45E0-82AA-1005AA9D2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910605B-DF75-49B3-9FFF-CFD6D8D89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F749066-AFD6-4D17-863D-941106BBD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84183AB-C755-45B8-B7BA-1D499E777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20B938E-5324-4CD3-83B6-8DDCAF62E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2D0458A-D298-4DC7-8048-37980E8BA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4DF506C-F061-4F15-A85B-989183CDE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7EBAD74-B25A-4F30-8B94-542E4E001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3D86B-2E83-4B9D-B410-5FA6BA365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921088F-BE4C-4B3C-82DE-54C57DE8C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F7DA098-B2C2-4610-9037-99C7F64E6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6D98FF6-0500-49BC-8DDC-16A6FDAC8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7D4AF9D-7494-4F25-98E6-4714BDC80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191A96E-7992-4396-B6DB-2349E1B18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7EA0155-4796-4D0A-98DD-1E4F0564F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D1BF153-4CCC-4D98-A53B-9CE146481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8E21DF3-3E0D-40BC-87C7-C552E83AC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C625915-7200-4759-8F1F-54AEE9796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703AB48-2DE1-46EA-B23D-FF761C56D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46999-C6E5-4E3C-8FDD-BD9B63AE9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ACFBE10-D592-46B4-BF5A-015703948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9DA90E2-594E-4DF9-86AD-69AFB013A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05B34C5-BCE1-46CB-9B0C-360FD42AE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7B0E677-D0A5-4B6D-80A0-BB62CB0C6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ABB5E70-437C-4CB7-BD42-3AAF2A7F6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E534F78-86E5-480A-AAC0-9D9AF257C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BA6291F-8681-455E-BE6B-159136F57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F29F152-B769-4BA1-A895-EFB519436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316D023-4A80-4195-98CE-88E054230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5C8E4DA-DF6A-4580-B25F-2EE7F8A2F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F9234-EE9A-4C41-BE4B-49EC1E363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C7CDC28-1CBF-4806-A200-C5B9FE8D5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F51F9F3-70A6-46BC-8472-FF6113203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8082D24-05CB-46C9-B6F0-9810C1311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D4DD412-D893-4AB4-AAD7-7D001696A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98EC35A-EE08-43A3-994F-C3666FFC9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2611883-4F4E-4440-9ED2-1F3D9029F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3C7354F-9EAC-4227-8616-344FF1C23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75CB698-1924-490C-A6A5-D8163B976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1A02BE7-4089-42E0-88B7-78D6D61A0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6E73A5A-A78C-44FD-8907-C83010A2A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B0A47-A40F-4D20-AE72-570165115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4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F545950-8C3D-47F6-B0B7-0C04D2B54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460626F-C24E-416D-B5E9-04410E13C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33C334B-3414-4054-A0B2-214B13456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7B4A9A7-F897-4827-BFFE-C863FB661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ED4B420-E278-471D-8462-5715FEC85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E6F113D-672D-4CEB-BCCB-559B58508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BAD9442-A817-4813-9343-11418DC99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12BF34E-3D42-4EE2-933D-2EC20F8D9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A70E3D0-BEF6-4347-A3DC-DDE74B6CF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F57D1DB-6AE1-4A7F-BD36-F8F9C313E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011619-06C2-4032-AA84-226B4D747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1E894EB-1CD3-4818-951D-4A1AC52F8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C74EE2F-0AE8-4030-B2BD-C97E05264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FEEC4DB-56A0-4CEC-9D11-C931C42DD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9B24056-7913-4793-B1D9-F76BBA140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6AC3E61-ECA2-4B9D-B067-AC282271D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BA9894F-B8BF-4F28-B802-F20AA7431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AF7ABFC-45F8-492D-B7E8-4375AF4AB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52BE7F3-BE1A-46A0-AFCC-4F9AE16FC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A5D8E69-CE13-48CD-807D-424EF3E62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2A7329A-A030-4BFE-9575-1233096A5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0D2109-E09F-4F24-B53A-97133F0F0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6FA9D3F-A3C3-4504-B2AB-D20F7D5B2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1604FC5-9CEB-4749-BD8B-D92FB92ED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9C5832C-6CDD-47B6-AA1B-88A505312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29C16B8-6DCF-4FF9-8791-C3CA38117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00D2F6C-4F71-47EF-9194-926A60893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CE053AE-BA50-49DA-8CE1-AD9AE393E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3C63A55-F66D-441D-B99A-5F20DCC6E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5ADDB0C-14B2-48AC-8875-B3748BECE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A63DF83-8C6F-4471-A9D0-67CFCC0A5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82DDFB6-24C1-4199-8643-54D142922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53DD35-FF7A-40FB-A70C-4522EFE53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87EC5DE-4AF1-48FE-9340-A01CD1B87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E6F53BB-CD85-4C52-8F61-2367C329E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D4FDF4F-E55F-4531-8FF2-0751C8745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20E21A5-E0AD-43A5-9AC6-4FBD54AC0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AAD91BC-EA37-4759-934E-1EBF81F00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A398DEE-DB38-4D72-92AB-1B9F31DA1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244C81C-183E-4FC6-B06D-31AF544E8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F176E8-5174-461B-95C4-2A4C41F9D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A52CBE-2529-4F4B-9657-9786EA0E4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59A2C-EDE6-4E15-ACFE-5BFAF8339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570E4B-E481-4CED-A8CC-2ED57EC2B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168CBF-043D-4A6E-BA1F-3E4CB421E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E0D006-73B1-4598-8C61-1D7C10B38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3283FC-4227-48AC-A9EC-22DDA7364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B11FD0-090D-4AB2-B753-8B61BB2FF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3800CE-7AF7-4C36-8409-68BDDFE43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DD725A-6B48-4355-BE0E-01E7B52E4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7A7392-890A-41A9-ADB1-B7B70C4AD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E9D7C3-E6C4-473A-9B90-28ED512E2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7DA767-5771-45FD-B9B8-01409D31E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3C7B5-A2CB-4FEA-A6AA-7DA758079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9F6635-22A6-44E5-B349-A0856CAEF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E668F2-AD10-4B4D-A03B-512BC26B0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AE6402-1118-4CE1-B37B-C309506A5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2FCBD3-20DB-4239-A4ED-9E538222B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D24D6D-BD0C-4C52-BB29-943BF3736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F74B21-B10F-45F0-BD43-551A400A0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DDCD37-E723-4E95-90A4-CBE4C8A3E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A6E963-F1ED-411F-8DD7-B21637CCE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AD6524-B5E3-45D8-9214-E2C16ADF7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4E5AF3-EBAE-4445-98CC-153889B44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D061A-BFFB-459B-8357-5599FAF7F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B3C198-1DCA-455B-8DE2-F31EB4167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2C818B-2295-4C51-B1A2-D2B6D6F1F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FC6EC7-6108-45FB-8B39-579A71262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F0A909-2087-4DAC-AC00-B1BD9885C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FD0700-8F8F-4A59-AEFD-4D79B73BE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CA9591-6BFD-409C-B2C2-EC702287B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53B13E-1BDC-4979-9FD3-1C5BD57F2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968572-D276-4D15-A6DE-E3F87979A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027992-D00E-4A54-A617-B362507E9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1E99F0-CCCE-413C-98A9-39D83AB66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0BB5F-E7E4-4EE5-99C9-0381FB5DD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0991D5-83F4-4F4E-9C3F-42A1DD6D0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DD06DB-3AD2-47E4-8419-DDE21398D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BC47A9-2890-44F6-85B8-3793F0427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250D85-569E-43B3-98BD-45821D3BF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CD2C0B-D67B-4BF0-8FD1-865024A89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5D95C0-5E0D-46E1-813E-882485FD8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52FEED-3591-4344-99DA-80A182C9A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320C2D-FAA8-469E-8E9D-5EA77894E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D3C3FB-032D-4E7A-BE73-88C6959CE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877DB5-4134-44D5-9EAB-36044CB06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1EC79-10FB-4A79-90A3-8AC4B8798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D85CBE-76CF-47DF-82AC-FA32907A6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F4D61C-EAA4-4528-B623-E48CB4150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BA92FE-DBB4-4531-B957-602931686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28C44A-6F4B-4B32-8D36-553FA4542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C26354-93C8-4909-BBE9-137CC6C9C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68565D-4030-4D97-98F1-53A325A32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E50DE1-6FE9-418A-A8A6-C0FDFB039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1A9AA2-28CF-4993-B8CE-A7E0227F6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A9FF4D-DD47-459A-99E9-44A859A12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F99286-A96B-4F5C-88AA-F574B2E98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9B294-00ED-4982-94D0-38631772B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A01253-8FE0-4DF9-9AEB-D28AA5B2F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30E6EC-7189-48A3-ADA6-9A1E4E924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81B38C-EF61-4312-80DE-3C2C4BEE5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4C012F-8D28-4C13-A256-2545EB8F7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8AE2C3-FD38-4922-8F3E-7F3D00633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0D283C-126C-4E11-8BF8-9A91F3A28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61301F-2113-4D3F-9E7E-C85B3FCD9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CBF4CF-8D43-408B-9B4A-0274AE43F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608614-56CC-4323-9193-D7EC10F5B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9ECCD8-B2A5-4871-8F04-682312796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CB593-0796-467F-93C7-4820BF921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D7E833-58AB-43FE-8880-191D7BD0D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08D2FD-8CA1-460E-BA69-230074C8B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533648-9597-45B5-A5DC-0687B8540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0BEADD-9362-4D93-8B52-9BFFA94C7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602354-3773-4C85-9E98-3859058B7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04EB96-8B93-40D7-8B50-B637A2FC3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35F58F-7306-44F3-870B-2006B1F57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714DF6-9994-461D-B132-0E37EF970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1CB0F8-0EDA-4B27-AFB7-AA5EF32B8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0E3163-E230-4430-A996-68293D814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97D64-A067-4E49-86AD-C523064A1F2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4125F-3770-4D20-9167-FA21B6D4823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EF7A5-F69E-4A38-95D0-1D8BFFC5B62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452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3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454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7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458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1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3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474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475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476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6092A-5197-4322-9029-6C1A7E9E822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366F2-30AD-4216-9157-93FE9DF4C52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604E6-D633-4AFF-85E1-2398A12608D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A483B-2E14-452F-891C-F970BE8F6A7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4BC69-7F52-491F-94CF-E93EF94E243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84ED1-025F-466C-B435-EF84798F105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4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8AA30-7F3A-4067-91CA-9C37D826D7C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F8A58-2412-4F5C-BAD3-1CE1FCD24B3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7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E575F-BB51-4A38-BE7C-CF085885FF2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549A6-4628-450D-B5D9-91B68AD8011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1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92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93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94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95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96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7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98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99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01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702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7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708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B1F6F-7E6A-47B4-A7BB-024714FFB2D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8A143-BB66-47BB-B8C6-B1C6E7E47AE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3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754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755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0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761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BE54B-A870-4938-8D40-57EEA744ED4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280BF-646D-4A2C-A799-6519EFDC0B5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7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1046B-D4B5-479D-BA3E-BBB3138BCAB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34155-62B3-41D8-B401-8F168902694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1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852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853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4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5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6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7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8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859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F2886-E8EC-4C4C-8A9A-1BA813437DA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07903-522D-41B6-ABB2-600422C3160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3646B-DF2C-4A51-9D09-B9C59DFDFA1D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5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18671-8AFC-4039-A877-8BABC8E109C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82283-40AE-4AFA-831E-8F3D8C9C46B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9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950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951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2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3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54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955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6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7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8780D-2782-41AE-AD88-72BE88421F6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FEA9C-BA16-47CD-8B08-118044C8050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1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07B4A-62D9-49B7-8A5F-36797A37FBA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31F21-94D7-4612-938C-7CBB54BA411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5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1046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1047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48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1049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0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51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1052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3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54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1055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1056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7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8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9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0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1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1062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3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4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 type="dt" idx="6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14DDC-4918-4325-ACE7-AF6CA63F088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 type="ftr" idx="6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 type="sldNum" idx="6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7EE24-9664-443A-9B2D-D7FC3C57E0F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279BD-8A35-49D1-842A-DCB1800A5EA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1C10C-DDB2-46A7-A0B3-14BA8DDE340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416E8-A9D3-4263-A469-0107952CE65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68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968F1-8749-49A9-896A-4EC827FF9107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212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213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215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221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7C90B-2000-4DD8-B153-5CB1B5618A9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CFFA2-9826-4E5E-A0BE-F96EA4A6D81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E8F41-759D-48C1-B192-4A008310CBB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51DA4-2E5D-41F8-93C6-C2CCAF1F64E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310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311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312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7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318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21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096C5-3D03-458A-A372-50AF13D5C77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C29C1-6A63-4C81-8A80-A22AC833FA0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45F6E-B6FA-43DC-9AF8-1B1E37764F7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122DE-903F-4918-88A1-91E306EE5B1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image" Target="../media/image14.png"/><Relationship Id="rId11" Type="http://schemas.openxmlformats.org/officeDocument/2006/relationships/image" Target="../media/image14.png"/><Relationship Id="rId1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6" name="图片 1" descr=""/>
          <p:cNvPicPr/>
          <p:nvPr/>
        </p:nvPicPr>
        <p:blipFill>
          <a:blip r:embed="rId1"/>
          <a:stretch/>
        </p:blipFill>
        <p:spPr>
          <a:xfrm>
            <a:off x="2752560" y="2771640"/>
            <a:ext cx="3638880" cy="13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1" name="图片 1" descr=""/>
          <p:cNvPicPr/>
          <p:nvPr/>
        </p:nvPicPr>
        <p:blipFill>
          <a:blip r:embed="rId1"/>
          <a:stretch/>
        </p:blipFill>
        <p:spPr>
          <a:xfrm>
            <a:off x="190440" y="885960"/>
            <a:ext cx="8763120" cy="50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2" name="图片 1" descr=""/>
          <p:cNvPicPr/>
          <p:nvPr/>
        </p:nvPicPr>
        <p:blipFill>
          <a:blip r:embed="rId1"/>
          <a:stretch/>
        </p:blipFill>
        <p:spPr>
          <a:xfrm>
            <a:off x="466560" y="2133720"/>
            <a:ext cx="8210880" cy="2590560"/>
          </a:xfrm>
          <a:prstGeom prst="rect">
            <a:avLst/>
          </a:prstGeom>
          <a:ln w="0">
            <a:noFill/>
          </a:ln>
        </p:spPr>
      </p:pic>
      <p:pic>
        <p:nvPicPr>
          <p:cNvPr id="1133" name="Picture 1" descr=""/>
          <p:cNvPicPr/>
          <p:nvPr/>
        </p:nvPicPr>
        <p:blipFill>
          <a:blip r:embed="rId2"/>
          <a:stretch/>
        </p:blipFill>
        <p:spPr>
          <a:xfrm>
            <a:off x="1042920" y="2205000"/>
            <a:ext cx="1513080" cy="409680"/>
          </a:xfrm>
          <a:prstGeom prst="rect">
            <a:avLst/>
          </a:prstGeom>
          <a:ln w="0">
            <a:noFill/>
          </a:ln>
        </p:spPr>
      </p:pic>
      <p:pic>
        <p:nvPicPr>
          <p:cNvPr id="1134" name="Picture 1" descr=""/>
          <p:cNvPicPr/>
          <p:nvPr/>
        </p:nvPicPr>
        <p:blipFill>
          <a:blip r:embed="rId3"/>
          <a:stretch/>
        </p:blipFill>
        <p:spPr>
          <a:xfrm>
            <a:off x="3780000" y="2205000"/>
            <a:ext cx="1512720" cy="409680"/>
          </a:xfrm>
          <a:prstGeom prst="rect">
            <a:avLst/>
          </a:prstGeom>
          <a:ln w="0">
            <a:noFill/>
          </a:ln>
        </p:spPr>
      </p:pic>
      <p:pic>
        <p:nvPicPr>
          <p:cNvPr id="1135" name="Picture 1" descr=""/>
          <p:cNvPicPr/>
          <p:nvPr/>
        </p:nvPicPr>
        <p:blipFill>
          <a:blip r:embed="rId4"/>
          <a:stretch/>
        </p:blipFill>
        <p:spPr>
          <a:xfrm>
            <a:off x="6588000" y="2205000"/>
            <a:ext cx="1513080" cy="409680"/>
          </a:xfrm>
          <a:prstGeom prst="rect">
            <a:avLst/>
          </a:prstGeom>
          <a:ln w="0">
            <a:noFill/>
          </a:ln>
        </p:spPr>
      </p:pic>
      <p:pic>
        <p:nvPicPr>
          <p:cNvPr id="1136" name="Picture 1" descr=""/>
          <p:cNvPicPr/>
          <p:nvPr/>
        </p:nvPicPr>
        <p:blipFill>
          <a:blip r:embed="rId5"/>
          <a:stretch/>
        </p:blipFill>
        <p:spPr>
          <a:xfrm>
            <a:off x="1116000" y="2852640"/>
            <a:ext cx="1513080" cy="409680"/>
          </a:xfrm>
          <a:prstGeom prst="rect">
            <a:avLst/>
          </a:prstGeom>
          <a:ln w="0">
            <a:noFill/>
          </a:ln>
        </p:spPr>
      </p:pic>
      <p:pic>
        <p:nvPicPr>
          <p:cNvPr id="1137" name="Picture 1" descr=""/>
          <p:cNvPicPr/>
          <p:nvPr/>
        </p:nvPicPr>
        <p:blipFill>
          <a:blip r:embed="rId6"/>
          <a:stretch/>
        </p:blipFill>
        <p:spPr>
          <a:xfrm>
            <a:off x="3852720" y="2852640"/>
            <a:ext cx="1513080" cy="409680"/>
          </a:xfrm>
          <a:prstGeom prst="rect">
            <a:avLst/>
          </a:prstGeom>
          <a:ln w="0">
            <a:noFill/>
          </a:ln>
        </p:spPr>
      </p:pic>
      <p:pic>
        <p:nvPicPr>
          <p:cNvPr id="1138" name="Picture 1" descr=""/>
          <p:cNvPicPr/>
          <p:nvPr/>
        </p:nvPicPr>
        <p:blipFill>
          <a:blip r:embed="rId7"/>
          <a:stretch/>
        </p:blipFill>
        <p:spPr>
          <a:xfrm>
            <a:off x="6661080" y="2852640"/>
            <a:ext cx="1798560" cy="409680"/>
          </a:xfrm>
          <a:prstGeom prst="rect">
            <a:avLst/>
          </a:prstGeom>
          <a:ln w="0">
            <a:noFill/>
          </a:ln>
        </p:spPr>
      </p:pic>
      <p:pic>
        <p:nvPicPr>
          <p:cNvPr id="1139" name="Picture 1" descr=""/>
          <p:cNvPicPr/>
          <p:nvPr/>
        </p:nvPicPr>
        <p:blipFill>
          <a:blip r:embed="rId8"/>
          <a:stretch/>
        </p:blipFill>
        <p:spPr>
          <a:xfrm>
            <a:off x="1042920" y="3514680"/>
            <a:ext cx="1513080" cy="409680"/>
          </a:xfrm>
          <a:prstGeom prst="rect">
            <a:avLst/>
          </a:prstGeom>
          <a:ln w="0">
            <a:noFill/>
          </a:ln>
        </p:spPr>
      </p:pic>
      <p:pic>
        <p:nvPicPr>
          <p:cNvPr id="1140" name="Picture 1" descr=""/>
          <p:cNvPicPr/>
          <p:nvPr/>
        </p:nvPicPr>
        <p:blipFill>
          <a:blip r:embed="rId9"/>
          <a:stretch/>
        </p:blipFill>
        <p:spPr>
          <a:xfrm>
            <a:off x="3780000" y="3514680"/>
            <a:ext cx="1512720" cy="409680"/>
          </a:xfrm>
          <a:prstGeom prst="rect">
            <a:avLst/>
          </a:prstGeom>
          <a:ln w="0">
            <a:noFill/>
          </a:ln>
        </p:spPr>
      </p:pic>
      <p:pic>
        <p:nvPicPr>
          <p:cNvPr id="1141" name="Picture 1" descr=""/>
          <p:cNvPicPr/>
          <p:nvPr/>
        </p:nvPicPr>
        <p:blipFill>
          <a:blip r:embed="rId10"/>
          <a:stretch/>
        </p:blipFill>
        <p:spPr>
          <a:xfrm>
            <a:off x="6588000" y="3514680"/>
            <a:ext cx="1513080" cy="409680"/>
          </a:xfrm>
          <a:prstGeom prst="rect">
            <a:avLst/>
          </a:prstGeom>
          <a:ln w="0">
            <a:noFill/>
          </a:ln>
        </p:spPr>
      </p:pic>
      <p:pic>
        <p:nvPicPr>
          <p:cNvPr id="1142" name="Picture 1" descr=""/>
          <p:cNvPicPr/>
          <p:nvPr/>
        </p:nvPicPr>
        <p:blipFill>
          <a:blip r:embed="rId11"/>
          <a:stretch/>
        </p:blipFill>
        <p:spPr>
          <a:xfrm>
            <a:off x="1187280" y="4164120"/>
            <a:ext cx="1513080" cy="40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1" dur="500"/>
                                        <p:tgtEl>
                                          <p:spTgt spid="1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6" dur="500"/>
                                        <p:tgtEl>
                                          <p:spTgt spid="1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1" dur="500"/>
                                        <p:tgtEl>
                                          <p:spTgt spid="1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6" dur="500"/>
                                        <p:tgtEl>
                                          <p:spTgt spid="1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1" dur="500"/>
                                        <p:tgtEl>
                                          <p:spTgt spid="1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6" dur="500"/>
                                        <p:tgtEl>
                                          <p:spTgt spid="1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1" dur="500"/>
                                        <p:tgtEl>
                                          <p:spTgt spid="1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6" dur="500"/>
                                        <p:tgtEl>
                                          <p:spTgt spid="1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1" dur="500"/>
                                        <p:tgtEl>
                                          <p:spTgt spid="1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6" dur="500"/>
                                        <p:tgtEl>
                                          <p:spTgt spid="1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7" name="图片 1" descr=""/>
          <p:cNvPicPr/>
          <p:nvPr/>
        </p:nvPicPr>
        <p:blipFill>
          <a:blip r:embed="rId1"/>
          <a:stretch/>
        </p:blipFill>
        <p:spPr>
          <a:xfrm>
            <a:off x="285840" y="838080"/>
            <a:ext cx="8665920" cy="576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8" name="图片 1" descr=""/>
          <p:cNvPicPr/>
          <p:nvPr/>
        </p:nvPicPr>
        <p:blipFill>
          <a:blip r:embed="rId1"/>
          <a:stretch/>
        </p:blipFill>
        <p:spPr>
          <a:xfrm>
            <a:off x="295200" y="1214280"/>
            <a:ext cx="8553600" cy="4429440"/>
          </a:xfrm>
          <a:prstGeom prst="rect">
            <a:avLst/>
          </a:prstGeom>
          <a:ln w="0">
            <a:noFill/>
          </a:ln>
        </p:spPr>
      </p:pic>
      <p:pic>
        <p:nvPicPr>
          <p:cNvPr id="1109" name="Picture 1" descr=""/>
          <p:cNvPicPr/>
          <p:nvPr/>
        </p:nvPicPr>
        <p:blipFill>
          <a:blip r:embed="rId2"/>
          <a:stretch/>
        </p:blipFill>
        <p:spPr>
          <a:xfrm>
            <a:off x="684360" y="1916280"/>
            <a:ext cx="502920" cy="409320"/>
          </a:xfrm>
          <a:prstGeom prst="rect">
            <a:avLst/>
          </a:prstGeom>
          <a:ln w="0">
            <a:noFill/>
          </a:ln>
        </p:spPr>
      </p:pic>
      <p:pic>
        <p:nvPicPr>
          <p:cNvPr id="1110" name="Picture 1" descr=""/>
          <p:cNvPicPr/>
          <p:nvPr/>
        </p:nvPicPr>
        <p:blipFill>
          <a:blip r:embed="rId3"/>
          <a:stretch/>
        </p:blipFill>
        <p:spPr>
          <a:xfrm>
            <a:off x="684360" y="2565360"/>
            <a:ext cx="502920" cy="409680"/>
          </a:xfrm>
          <a:prstGeom prst="rect">
            <a:avLst/>
          </a:prstGeom>
          <a:ln w="0">
            <a:noFill/>
          </a:ln>
        </p:spPr>
      </p:pic>
      <p:pic>
        <p:nvPicPr>
          <p:cNvPr id="1111" name="Picture 1" descr=""/>
          <p:cNvPicPr/>
          <p:nvPr/>
        </p:nvPicPr>
        <p:blipFill>
          <a:blip r:embed="rId4"/>
          <a:stretch/>
        </p:blipFill>
        <p:spPr>
          <a:xfrm>
            <a:off x="755640" y="3213000"/>
            <a:ext cx="503280" cy="409680"/>
          </a:xfrm>
          <a:prstGeom prst="rect">
            <a:avLst/>
          </a:prstGeom>
          <a:ln w="0">
            <a:noFill/>
          </a:ln>
        </p:spPr>
      </p:pic>
      <p:pic>
        <p:nvPicPr>
          <p:cNvPr id="1112" name="Picture 1" descr=""/>
          <p:cNvPicPr/>
          <p:nvPr/>
        </p:nvPicPr>
        <p:blipFill>
          <a:blip r:embed="rId5"/>
          <a:stretch/>
        </p:blipFill>
        <p:spPr>
          <a:xfrm>
            <a:off x="755640" y="3860640"/>
            <a:ext cx="503280" cy="409680"/>
          </a:xfrm>
          <a:prstGeom prst="rect">
            <a:avLst/>
          </a:prstGeom>
          <a:ln w="0">
            <a:noFill/>
          </a:ln>
        </p:spPr>
      </p:pic>
      <p:pic>
        <p:nvPicPr>
          <p:cNvPr id="1113" name="Picture 1" descr=""/>
          <p:cNvPicPr/>
          <p:nvPr/>
        </p:nvPicPr>
        <p:blipFill>
          <a:blip r:embed="rId6"/>
          <a:stretch/>
        </p:blipFill>
        <p:spPr>
          <a:xfrm>
            <a:off x="684360" y="4508640"/>
            <a:ext cx="502920" cy="409320"/>
          </a:xfrm>
          <a:prstGeom prst="rect">
            <a:avLst/>
          </a:prstGeom>
          <a:ln w="0">
            <a:noFill/>
          </a:ln>
        </p:spPr>
      </p:pic>
      <p:pic>
        <p:nvPicPr>
          <p:cNvPr id="1114" name="Picture 1" descr=""/>
          <p:cNvPicPr/>
          <p:nvPr/>
        </p:nvPicPr>
        <p:blipFill>
          <a:blip r:embed="rId7"/>
          <a:stretch/>
        </p:blipFill>
        <p:spPr>
          <a:xfrm>
            <a:off x="684360" y="5157720"/>
            <a:ext cx="502920" cy="4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1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1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1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500"/>
                                        <p:tgtEl>
                                          <p:spTgt spid="1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5" name="图片 1" descr=""/>
          <p:cNvPicPr/>
          <p:nvPr/>
        </p:nvPicPr>
        <p:blipFill>
          <a:blip r:embed="rId1"/>
          <a:stretch/>
        </p:blipFill>
        <p:spPr>
          <a:xfrm>
            <a:off x="619200" y="2157480"/>
            <a:ext cx="7905600" cy="2543040"/>
          </a:xfrm>
          <a:prstGeom prst="rect">
            <a:avLst/>
          </a:prstGeom>
          <a:ln w="0">
            <a:noFill/>
          </a:ln>
        </p:spPr>
      </p:pic>
      <p:pic>
        <p:nvPicPr>
          <p:cNvPr id="1116" name="Picture 1" descr=""/>
          <p:cNvPicPr/>
          <p:nvPr/>
        </p:nvPicPr>
        <p:blipFill>
          <a:blip r:embed="rId2"/>
          <a:stretch/>
        </p:blipFill>
        <p:spPr>
          <a:xfrm>
            <a:off x="1042920" y="2276640"/>
            <a:ext cx="503280" cy="409320"/>
          </a:xfrm>
          <a:prstGeom prst="rect">
            <a:avLst/>
          </a:prstGeom>
          <a:ln w="0">
            <a:noFill/>
          </a:ln>
        </p:spPr>
      </p:pic>
      <p:pic>
        <p:nvPicPr>
          <p:cNvPr id="1117" name="Picture 1" descr=""/>
          <p:cNvPicPr/>
          <p:nvPr/>
        </p:nvPicPr>
        <p:blipFill>
          <a:blip r:embed="rId3"/>
          <a:stretch/>
        </p:blipFill>
        <p:spPr>
          <a:xfrm>
            <a:off x="1042920" y="2852640"/>
            <a:ext cx="503280" cy="409680"/>
          </a:xfrm>
          <a:prstGeom prst="rect">
            <a:avLst/>
          </a:prstGeom>
          <a:ln w="0">
            <a:noFill/>
          </a:ln>
        </p:spPr>
      </p:pic>
      <p:pic>
        <p:nvPicPr>
          <p:cNvPr id="1118" name="Picture 1" descr=""/>
          <p:cNvPicPr/>
          <p:nvPr/>
        </p:nvPicPr>
        <p:blipFill>
          <a:blip r:embed="rId4"/>
          <a:stretch/>
        </p:blipFill>
        <p:spPr>
          <a:xfrm>
            <a:off x="1116000" y="3500280"/>
            <a:ext cx="503280" cy="409680"/>
          </a:xfrm>
          <a:prstGeom prst="rect">
            <a:avLst/>
          </a:prstGeom>
          <a:ln w="0">
            <a:noFill/>
          </a:ln>
        </p:spPr>
      </p:pic>
      <p:pic>
        <p:nvPicPr>
          <p:cNvPr id="1119" name="Picture 1" descr=""/>
          <p:cNvPicPr/>
          <p:nvPr/>
        </p:nvPicPr>
        <p:blipFill>
          <a:blip r:embed="rId5"/>
          <a:stretch/>
        </p:blipFill>
        <p:spPr>
          <a:xfrm>
            <a:off x="1042920" y="4221000"/>
            <a:ext cx="503280" cy="4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500"/>
                                        <p:tgtEl>
                                          <p:spTgt spid="1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500"/>
                                        <p:tgtEl>
                                          <p:spTgt spid="1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500"/>
                                        <p:tgtEl>
                                          <p:spTgt spid="1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500"/>
                                        <p:tgtEl>
                                          <p:spTgt spid="1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0" name="图片 1" descr=""/>
          <p:cNvPicPr/>
          <p:nvPr/>
        </p:nvPicPr>
        <p:blipFill>
          <a:blip r:embed="rId1"/>
          <a:stretch/>
        </p:blipFill>
        <p:spPr>
          <a:xfrm>
            <a:off x="195120" y="852480"/>
            <a:ext cx="8751960" cy="51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1" name="图片 1" descr=""/>
          <p:cNvPicPr/>
          <p:nvPr/>
        </p:nvPicPr>
        <p:blipFill>
          <a:blip r:embed="rId1"/>
          <a:stretch/>
        </p:blipFill>
        <p:spPr>
          <a:xfrm>
            <a:off x="190440" y="638280"/>
            <a:ext cx="8763120" cy="5610240"/>
          </a:xfrm>
          <a:prstGeom prst="rect">
            <a:avLst/>
          </a:prstGeom>
          <a:ln w="0">
            <a:noFill/>
          </a:ln>
        </p:spPr>
      </p:pic>
      <p:pic>
        <p:nvPicPr>
          <p:cNvPr id="1122" name="图片 2" descr=""/>
          <p:cNvPicPr/>
          <p:nvPr/>
        </p:nvPicPr>
        <p:blipFill>
          <a:blip r:embed="rId2"/>
          <a:stretch/>
        </p:blipFill>
        <p:spPr>
          <a:xfrm>
            <a:off x="1849320" y="6326280"/>
            <a:ext cx="5867640" cy="514080"/>
          </a:xfrm>
          <a:prstGeom prst="rect">
            <a:avLst/>
          </a:prstGeom>
          <a:ln w="0">
            <a:noFill/>
          </a:ln>
        </p:spPr>
      </p:pic>
      <p:pic>
        <p:nvPicPr>
          <p:cNvPr id="1123" name="Picture 1" descr=""/>
          <p:cNvPicPr/>
          <p:nvPr/>
        </p:nvPicPr>
        <p:blipFill>
          <a:blip r:embed="rId3"/>
          <a:stretch/>
        </p:blipFill>
        <p:spPr>
          <a:xfrm>
            <a:off x="684360" y="5229360"/>
            <a:ext cx="502920" cy="40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0" dur="500"/>
                                        <p:tgtEl>
                                          <p:spTgt spid="1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4" name="图片 1" descr=""/>
          <p:cNvPicPr/>
          <p:nvPr/>
        </p:nvPicPr>
        <p:blipFill>
          <a:blip r:embed="rId1"/>
          <a:stretch/>
        </p:blipFill>
        <p:spPr>
          <a:xfrm>
            <a:off x="257040" y="885960"/>
            <a:ext cx="8629920" cy="5086080"/>
          </a:xfrm>
          <a:prstGeom prst="rect">
            <a:avLst/>
          </a:prstGeom>
          <a:ln w="0">
            <a:noFill/>
          </a:ln>
        </p:spPr>
      </p:pic>
      <p:pic>
        <p:nvPicPr>
          <p:cNvPr id="1125" name="Picture 1" descr=""/>
          <p:cNvPicPr/>
          <p:nvPr/>
        </p:nvPicPr>
        <p:blipFill>
          <a:blip r:embed="rId2"/>
          <a:stretch/>
        </p:blipFill>
        <p:spPr>
          <a:xfrm>
            <a:off x="684360" y="907920"/>
            <a:ext cx="502920" cy="409680"/>
          </a:xfrm>
          <a:prstGeom prst="rect">
            <a:avLst/>
          </a:prstGeom>
          <a:ln w="0">
            <a:noFill/>
          </a:ln>
        </p:spPr>
      </p:pic>
      <p:pic>
        <p:nvPicPr>
          <p:cNvPr id="1126" name="Picture 1" descr=""/>
          <p:cNvPicPr/>
          <p:nvPr/>
        </p:nvPicPr>
        <p:blipFill>
          <a:blip r:embed="rId3"/>
          <a:stretch/>
        </p:blipFill>
        <p:spPr>
          <a:xfrm>
            <a:off x="684360" y="2852640"/>
            <a:ext cx="502920" cy="4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7" dur="500"/>
                                        <p:tgtEl>
                                          <p:spTgt spid="1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2" dur="500"/>
                                        <p:tgtEl>
                                          <p:spTgt spid="1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7" name="图片 1" descr=""/>
          <p:cNvPicPr/>
          <p:nvPr/>
        </p:nvPicPr>
        <p:blipFill>
          <a:blip r:embed="rId1"/>
          <a:stretch/>
        </p:blipFill>
        <p:spPr>
          <a:xfrm>
            <a:off x="181080" y="1523880"/>
            <a:ext cx="8781840" cy="3810240"/>
          </a:xfrm>
          <a:prstGeom prst="rect">
            <a:avLst/>
          </a:prstGeom>
          <a:ln w="0">
            <a:noFill/>
          </a:ln>
        </p:spPr>
      </p:pic>
      <p:pic>
        <p:nvPicPr>
          <p:cNvPr id="1128" name="Picture 1" descr=""/>
          <p:cNvPicPr/>
          <p:nvPr/>
        </p:nvPicPr>
        <p:blipFill>
          <a:blip r:embed="rId2"/>
          <a:stretch/>
        </p:blipFill>
        <p:spPr>
          <a:xfrm>
            <a:off x="611280" y="1671480"/>
            <a:ext cx="503280" cy="409680"/>
          </a:xfrm>
          <a:prstGeom prst="rect">
            <a:avLst/>
          </a:prstGeom>
          <a:ln w="0">
            <a:noFill/>
          </a:ln>
        </p:spPr>
      </p:pic>
      <p:pic>
        <p:nvPicPr>
          <p:cNvPr id="1129" name="Picture 1" descr=""/>
          <p:cNvPicPr/>
          <p:nvPr/>
        </p:nvPicPr>
        <p:blipFill>
          <a:blip r:embed="rId3"/>
          <a:stretch/>
        </p:blipFill>
        <p:spPr>
          <a:xfrm>
            <a:off x="611280" y="2924280"/>
            <a:ext cx="503280" cy="40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9" dur="500"/>
                                        <p:tgtEl>
                                          <p:spTgt spid="1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4" dur="500"/>
                                        <p:tgtEl>
                                          <p:spTgt spid="1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0" name="图片 2" descr=""/>
          <p:cNvPicPr/>
          <p:nvPr/>
        </p:nvPicPr>
        <p:blipFill>
          <a:blip r:embed="rId1"/>
          <a:stretch/>
        </p:blipFill>
        <p:spPr>
          <a:xfrm>
            <a:off x="228600" y="819000"/>
            <a:ext cx="8686800" cy="52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加冕成王</cp:lastModifiedBy>
  <dcterms:modified xsi:type="dcterms:W3CDTF">2020-07-17T02:13:49Z</dcterms:modified>
  <cp:revision>2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828</vt:lpwstr>
  </property>
</Properties>
</file>